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120-CA20-41FB-B9DD-5D843438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376-999A-4C46-BB78-0BDF0B0F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AC4-9AA3-47BF-BD14-2AFCFA4E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F97-0997-47E5-B0E9-6E566FD5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088-67B0-4CA8-B323-904F24DF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9A0-E7FF-4252-B0CC-A3F14C84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53B-9D2A-44E5-86F3-8EBE329C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F11-A8A4-4664-B4FB-8A451902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100-1944-4E01-B55C-D0AC2C7E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0B0-78C9-42D7-A6C1-C843BFE7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DD5-6ADC-490A-8656-AA883A21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703-2E27-4CD5-ADC4-ECBA7F01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E754-D95D-48AD-9F2D-BB8AADA577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1628640"/>
            <a:ext cx="6337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Finanční řízení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1532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. Johana Burget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opad/prosinec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220-5814-498C-9C52-CBBCE1B9A3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Hlavní zásady finančního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ční prostředky musí být vynakládány efektivně na projekty, které přispějí k realizaci cílů OP R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financování projektů se sdružují prostředky EU a státního rozpočtu v poměru 75 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může být financován jen z jednoho Strukturálního fon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í být dodržen zákon o rozpočtových pravidlech 218/2000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73F-CC06-4905-B709-5F16749DB1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Platby Konečným uživatelům v OP RL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chny projekty budou předfinancovány maximálně do výše 25 % celkových plánovan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běžné plat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ěrečné vyúčt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 – každý projekt přesahující 3 mil. Kč musí mít proveden audit autorizovanou auditorskou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6FB-DBB7-4BCA-8219-CE6ED7CEFE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Rozpo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sestavování rozpočtu je nutné dodržet tyto základní podíly některých výdajů na celkových výdajích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y na nákup nového či použitého HIM maximálně 25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služeb maximálně 49 %, 51 % výdajů projektu musí být    realizováno žadatelem a 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žijní náklady maximálně 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785-AFC2-40E7-B65C-048CACE527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Změny při realiz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jemce je povinen o všech změnách informovat Konečné příjem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úpravy prováděné bez souhlasu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úpravy vyžadující uzavření dodatku k rozhodnutí o poskytnu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F47-E3D7-4441-9AEA-29304ECDC9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Administrace výběru doda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dodavatelů musí být transparentní  a nediskrimina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nad 2 mil. se řídí zákonem 40 /2004 Sb. (Zákon o veřejných zakázk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500 000 až 2 m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dle bodov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valita služby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valita realizačního týmu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ena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100 000 až 500 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do 1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4F4-820B-4E20-B851-5BEC170733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Veřejná pod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Opatření 3.2 OP RLZ se veřejná podpora týká pouze Pp D – zvyšování kvalifikace vědeckých a výzkumných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účely veřejné podpory rozlišujeme obecné a specifické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jimka poskytnutá pro OP RLZ Úřadem pro ochranu hospodářské soutěže č.j. VP/81/04-160. Úplné znění www. 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OP RLZ byly tímto rozhodnutím stanoveny 4 mechanizmy poskytování veřejné podpory, ale pro Opatření 3.2 je možné využít pouze tyto d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dpora pro vzdělávání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dpora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04C-576D-4D01-A2B0-F6D5E31D96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íra veřejné podpory pro vzdělávací projek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2276640"/>
          <a:ext cx="7557840" cy="3862080"/>
        </p:xfrm>
        <a:graphic>
          <a:graphicData uri="http://schemas.openxmlformats.org/drawingml/2006/table">
            <a:tbl>
              <a:tblPr/>
              <a:tblGrid>
                <a:gridCol w="3240000"/>
                <a:gridCol w="2089080"/>
                <a:gridCol w="22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k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ké vzdělá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cné vzdělá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 podniky v Č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 a střední podn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 podniky v ČR – vzdělávání pro znevýhodněné pracovní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 a střední podniky – vzdělávání pro znevýhodněné pracovní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8A3-C37A-4FBC-8FEC-30BE149646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Děkuji za pozornost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360" y="1484280"/>
            <a:ext cx="4173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sfprovs@msmt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0F4-08C1-43D8-8035-3153E54C5C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Administrator</dc:creator>
  <dc:description/>
  <dc:language>en-US</dc:language>
  <cp:lastModifiedBy>prejzovaa</cp:lastModifiedBy>
  <dcterms:modified xsi:type="dcterms:W3CDTF">2005-12-19T13:47:41Z</dcterms:modified>
  <cp:revision>14</cp:revision>
  <dc:subject/>
  <dc:title>Prezentace pro Lenič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506026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